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FE7E0-90F2-469A-8D07-09C6BE65A03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История национальной валюты Тенг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История национальной валюты Тенг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овременная тенг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овременная тенг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оначальные сведения о тенг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оначально на территории Республики Казахстан имели хождение разменные монеты из сплава Л-80 с номиналом 2, 5, 10, 20, 50 тиын, впоследствии они были изъяты из обращения. Кроме того, были введены монеты денежного обращения из сплава “нейзильбер” номиналом 1, 3, 5, 10, 20 тенге, а также памятные и юбилейные монет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оначальные сведения о тенг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оначально на территории Республики Казахстан имели хождение разменные монеты из сплава Л-80 с номиналом 2, 5, 10, 20, 50 тиын, впоследствии они были изъяты из обращения. Кроме того, были введены монеты денежного обращения из сплава “нейзильбер” номиналом 1, 3, 5, 10, 20 тенге, а также памятные и юбилейные монет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ые образцы тенг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тенг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мер 124х62 м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цевая сторона банкноты достоинством 1 тенге синего цвета С правой стороны банкноты размещен портрет великого мыслителя Востока Аль-Фараби, по вертикали синей краской напечатаны его имя и годы жизни. Внизу слева от портрета казахский национальный орнамент. Под номиналом в левом углу орнаментальный рисунок.Оборотная сторона банкноты розового цвета. В центре изображены геометрические построения и формулы Аль-Фараб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ые образцы тенг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 тенг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мер 124х62 м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цевая сторона банкноты достоинством 1 тенге синего цвета С правой стороны банкноты размещен портрет великого мыслителя Востока Аль-Фараби, по вертикали синей краской напечатаны его имя и годы жизни. Внизу слева от портрета казахский национальный орнамент. Под номиналом в левом углу орнаментальный рисунок.Оборотная сторона банкноты розового цвета. В центре изображены геометрические построения и формулы Аль-Фараб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ые образцы тенг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 тенг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мер 124х62 м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цевая сторона банкноты серо-зеленого цвета. С правой стороны банкноты размещен портрет народного акына Суинбая. По вертикали темно-зеленой краской напечатаны имя и годы жизни акына. Внизу слева от портрета казахский национальный орнамент. Под номиналом в левом углу орнаментальный рисунок.Оборотная сторона банкноты зеленого цвета. В центре пейзаж Алатау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ые образцы тенг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 тенг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мер 124х62 м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цевая сторона банкноты серо-зеленого цвета. С правой стороны банкноты размещен портрет народного акына Суинбая. По вертикали темно-зеленой краской напечатаны имя и годы жизни акына. Внизу слева от портрета казахский национальный орнамент. Под номиналом в левом углу орнаментальный рисунок.Оборотная сторона банкноты зеленого цвета. В центре пейзаж Алата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ые образцы тенг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 тенг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мер 124х62 м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цевая сторона банкноты коричневого цвета. С правой стороны размещен портрет народного композитора Курмангазы. По вертикали коричневой краской напечатаны имя и годы жизни композитора. Внизу слева от портрета казахский национальный орнамент. Под номиналом в левом углу размещен орнаментальный рисунок. Оборотная сторона банкноты желто-красного цвета. В центре изображен мавзолейный комплекс.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ые образцы тенг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 тенг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мер 124х62 м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цевая сторона банкноты коричневого цвета. С правой стороны размещен портрет народного композитора Курмангазы. По вертикали коричневой краской напечатаны имя и годы жизни композитора. Внизу слева от портрета казахский национальный орнамент. Под номиналом в левом углу размещен орнаментальный рисунок. Оборотная сторона банкноты желто-красного цвета. В центре изображен мавзолейный комплекс.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ые образцы тенг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 тенг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мер 144х69 м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обладающий цвет лицевой стороны банкноты темно-зеленый. С правой стороны размещен портрет казахского просветителя Чокана Валиханова и по вертикали темно-зеленой краской напечатаны его имя и годы жизни.Внизу слева от портрета казахский орнамент. С левой стороны банкноты водяной знак Чокана Валиханова.На оборотной стороне банкноты преобладает зеленый цвет. В центре банкноты изображен пейзаж с видом на горы "Ок жетпес"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ые образцы тенг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 тенг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мер 144х69 м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обладающий цвет лицевой стороны банкноты темно-зеленый. С правой стороны размещен портрет казахского просветителя Чокана Валиханова и по вертикали темно-зеленой краской напечатаны его имя и годы жизни.Внизу слева от портрета казахский орнамент. С левой стороны банкноты водяной знак Чокана Валиханова.На оборотной стороне банкноты преобладает зеленый цвет. В центре банкноты изображен пейзаж с видом на горы "Ок жетпес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ые образцы тенг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 тенг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мер 144х69 м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обладающий цвет лицевой стороны банкноты темно-коричневый. С левой стороны банкноты водяной знак с портретом Абая, по вертикали черной краской его имя и годы жизни.             В нижнем углу с левой стороны и вверху с правой стороны обозначен цифровой номинал банкноты "20", а под ним орнаментальный узор.Основной цвет оборотной стороны коричневый. В центре изображен беркутчи с беркутом по произведениям Абая Кунанбае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ые образцы тенг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 тенг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мер 144х69 м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обладающий цвет лицевой стороны банкноты темно-коричневый. С левой стороны банкноты водяной знак с портретом Абая, по вертикали черной краской его имя и годы жизни.             В нижнем углу с левой стороны и вверху с правой стороны обозначен цифровой номинал банкноты "20", а под ним орнаментальный узор.Основной цвет оборотной стороны коричневый. В центре изображен беркутчи с беркутом по произведениям Абая Кунанбаев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ые образцы тенг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0 тенг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мер 144х69 м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обладающие цвета лицевой и оборотной стороны банкноты светло-коричневый. С правой стороны банкноты размещен портрет Абулхаир хана и по вертикали светло-коричневой краской его имя и годы жизни. В нижнем углу с левой стороны и вверху с правой стороны обозначен цифровой номинал банкноты "50". На левой стороне банкноты водяной знак с портретом Абулхаир ха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оротная сторона банкноты коричневая. В центре изображены наскальные рисунки Мангистау отражающие древние искусства Казахстан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ые образцы тенг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0 тенг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мер 144х69 м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обладающие цвета лицевой и оборотной стороны банкноты светло-коричневый. С правой стороны банкноты размещен портрет Абулхаир хана и по вертикали светло-коричневой краской его имя и годы жизни. В нижнем углу с левой стороны и вверху с правой стороны обозначен цифровой номинал банкноты "50". На левой стороне банкноты водяной знак с портретом Абулхаир ха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отная сторона банкноты коричневая. В центре изображены наскальные рисунки Мангистау отражающие древние искусства Казахстан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овую жизнь с новыми деньг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2001 г. была выпущена в обращение банкнота номиналом 100 тенге, на лицевой сторон которой в левом верхнем углу изображение розетки специальной цветоменяющейся краской заменено краской "золотой интаглио" без цветоменяющегося эффек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01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93 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новую жизнь с новыми деньг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2001 г. была выпущена в обращение банкнота номиналом 100 тенге, на лицевой сторон которой в левом верхнем углу изображение розетки специальной цветоменяющейся краской заменено краской "золотой интаглио" без цветоменяющегося эффект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01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993 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96BE-1E3B-4782-B788-B54C26700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EB1D-713E-4441-97F9-2269A0804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09E7-1651-416F-8A2D-B25B682D3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6591-721C-4DD3-A8A1-47350B205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7A378-7D52-423E-88DC-8DC061AE1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A723B-C646-4B02-BE1E-93D4CEC1E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FF4DB-5CCD-4B40-B8D0-1A2A2CF11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8CB1E-D0E0-497E-8064-FC6FA847D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1EBBC-1EE8-4894-93DE-B809BC0B8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BCC6E-79CC-43BC-9C2C-22BB5EC6B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EFA00-AB48-419A-A539-A0AB68C72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C827-6154-4C7F-934E-E78263D49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E612B-628B-4CCF-8881-8A17F21D6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7EA6B-72F6-44E2-8F61-06AD66F3C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111BB-8FCE-4ADB-BC7A-8230B12DB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534FE-FA40-4E2D-B0D1-6FAFC31AA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5B5E4-9854-4636-9680-D25378012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FE2B-455E-4BBF-8246-3E6682760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EE10-4E7C-4B4B-B125-75B101C4C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5CC9-098D-4AE1-834B-C313F601B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1538-52BF-4B68-8A40-5754F0BFD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919D-35DA-4090-9601-01312FC30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E007-AD6A-4C12-9EFB-42001020E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BE0F-CD49-4255-97B5-C12743DED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04EA1-8AEF-4F75-B209-ED11DDBEB4E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F8061-C477-4AB2-87D4-BB8E81AA0FB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8920" y="2060640"/>
            <a:ext cx="8458200" cy="24480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e4005c"/>
                </a:solidFill>
                <a:latin typeface="Arial"/>
              </a:rPr>
              <a:t>История национальной валюты Тенге</a:t>
            </a:r>
            <a:endParaRPr b="0" lang="en-US" sz="7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Современная тенге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33" name="Picture 4" descr="239px-Kazah_tenge"/>
          <p:cNvPicPr/>
          <p:nvPr/>
        </p:nvPicPr>
        <p:blipFill>
          <a:blip r:embed="rId1"/>
          <a:stretch/>
        </p:blipFill>
        <p:spPr>
          <a:xfrm rot="882000">
            <a:off x="468000" y="836640"/>
            <a:ext cx="4456080" cy="32623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kazakh_tenge"/>
          <p:cNvPicPr/>
          <p:nvPr/>
        </p:nvPicPr>
        <p:blipFill>
          <a:blip r:embed="rId2"/>
          <a:stretch/>
        </p:blipFill>
        <p:spPr>
          <a:xfrm rot="19501800">
            <a:off x="3780000" y="2636640"/>
            <a:ext cx="5717880" cy="3584520"/>
          </a:xfrm>
          <a:prstGeom prst="rect">
            <a:avLst/>
          </a:prstGeom>
          <a:ln w="0">
            <a:noFill/>
          </a:ln>
        </p:spPr>
      </p:pic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Первоначальные сведения о тенге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47640" y="112500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воначально на территории Республики Казахстан имели хождение разменные монеты из сплава Л-80 с номиналом 2, 5, 10, 20, 50 тиын, впоследствии они были изъяты из обращения. Кроме того, были введены монеты денежного обращения из сплава “нейзильбер” номиналом 1, 3, 5, 10, 20 тенге, а также памятные и юбилейные монет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Монета 20 тенге"/>
          <p:cNvPicPr/>
          <p:nvPr/>
        </p:nvPicPr>
        <p:blipFill>
          <a:blip r:embed="rId1"/>
          <a:stretch/>
        </p:blipFill>
        <p:spPr>
          <a:xfrm>
            <a:off x="0" y="5318280"/>
            <a:ext cx="2521080" cy="15397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Монета 50 тиын"/>
          <p:cNvPicPr/>
          <p:nvPr/>
        </p:nvPicPr>
        <p:blipFill>
          <a:blip r:embed="rId2"/>
          <a:stretch/>
        </p:blipFill>
        <p:spPr>
          <a:xfrm>
            <a:off x="6659640" y="5373720"/>
            <a:ext cx="2334960" cy="128916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      </a:t>
            </a: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Первые образцы тенге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01" name="Picture 4" descr="image012"/>
          <p:cNvPicPr/>
          <p:nvPr/>
        </p:nvPicPr>
        <p:blipFill>
          <a:blip r:embed="rId1"/>
          <a:stretch/>
        </p:blipFill>
        <p:spPr>
          <a:xfrm rot="1267200">
            <a:off x="5795640" y="1413000"/>
            <a:ext cx="3024000" cy="243684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5"/>
          <p:cNvSpPr/>
          <p:nvPr/>
        </p:nvSpPr>
        <p:spPr>
          <a:xfrm>
            <a:off x="1042920" y="3285360"/>
            <a:ext cx="63565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 тенг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мер 124х62 м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ицевая сторона банкноты достоинством 1 тенге синего цвета С правой стороны банкноты размещен портрет великого мыслителя Востока Аль-Фараби, по вертикали синей краской напечатаны его имя и годы жизни. Внизу слева от портрета казахский национальный орнамент. Под номиналом в левом углу орнаментальный рисунок.Оборотная сторона банкноты розового цвета. В центре изображены геометрические построения и формулы Аль-Фараб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Первые образцы тенге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05" name="Picture 4" descr="image010"/>
          <p:cNvPicPr/>
          <p:nvPr/>
        </p:nvPicPr>
        <p:blipFill>
          <a:blip r:embed="rId1"/>
          <a:stretch/>
        </p:blipFill>
        <p:spPr>
          <a:xfrm rot="1375800">
            <a:off x="5940000" y="1483920"/>
            <a:ext cx="2921040" cy="219708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5"/>
          <p:cNvSpPr/>
          <p:nvPr/>
        </p:nvSpPr>
        <p:spPr>
          <a:xfrm>
            <a:off x="1619280" y="3574080"/>
            <a:ext cx="563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 тенг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мер 124х62 м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ицевая сторона банкноты серо-зеленого цвета. С правой стороны банкноты размещен портрет народного акына Суинбая. По вертикали темно-зеленой краской напечатаны имя и годы жизни акына. Внизу слева от портрета казахский национальный орнамент. Под номиналом в левом углу орнаментальный рисунок.Оборотная сторона банкноты зеленого цвета. В центре пейзаж Алата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Первые образцы тенге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09" name="Picture 4" descr="image008"/>
          <p:cNvPicPr/>
          <p:nvPr/>
        </p:nvPicPr>
        <p:blipFill>
          <a:blip r:embed="rId1"/>
          <a:stretch/>
        </p:blipFill>
        <p:spPr>
          <a:xfrm rot="1368600">
            <a:off x="5867280" y="1483920"/>
            <a:ext cx="2938680" cy="203832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5"/>
          <p:cNvSpPr/>
          <p:nvPr/>
        </p:nvSpPr>
        <p:spPr>
          <a:xfrm>
            <a:off x="2124000" y="2925360"/>
            <a:ext cx="50878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 тенг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мер 124х62 м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ицевая сторона банкноты коричневого цвета. С правой стороны размещен портрет народного композитора Курмангазы. По вертикали коричневой краской напечатаны имя и годы жизни композитора. Внизу слева от портрета казахский национальный орнамент. Под номиналом в левом углу размещен орнаментальный рисунок. Оборотная сторона банкноты желто-красного цвета. В центре изображен мавзолейный комплекс.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Первые образцы тенге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13" name="Picture 4" descr="image006"/>
          <p:cNvPicPr/>
          <p:nvPr/>
        </p:nvPicPr>
        <p:blipFill>
          <a:blip r:embed="rId1"/>
          <a:stretch/>
        </p:blipFill>
        <p:spPr>
          <a:xfrm rot="1359600">
            <a:off x="5435280" y="1412640"/>
            <a:ext cx="3240000" cy="273204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5"/>
          <p:cNvSpPr/>
          <p:nvPr/>
        </p:nvSpPr>
        <p:spPr>
          <a:xfrm>
            <a:off x="1476360" y="2709360"/>
            <a:ext cx="45734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0 тенг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мер 144х69 м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обладающий цвет лицевой стороны банкноты темно-зеленый. С правой стороны размещен портрет казахского просветителя Чокана Валиханова и по вертикали темно-зеленой краской напечатаны его имя и годы жизни.Внизу слева от портрета казахский орнамент. С левой стороны банкноты водяной знак Чокана Валиханова.На оборотной стороне банкноты преобладает зеленый цвет. В центре банкноты изображен пейзаж с видом на горы "Ок жетпес"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Первые образцы тенге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17" name="Picture 4" descr="image004"/>
          <p:cNvPicPr/>
          <p:nvPr/>
        </p:nvPicPr>
        <p:blipFill>
          <a:blip r:embed="rId1"/>
          <a:stretch/>
        </p:blipFill>
        <p:spPr>
          <a:xfrm rot="1231200">
            <a:off x="5435280" y="1341000"/>
            <a:ext cx="3419280" cy="291456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5"/>
          <p:cNvSpPr/>
          <p:nvPr/>
        </p:nvSpPr>
        <p:spPr>
          <a:xfrm>
            <a:off x="611280" y="2422080"/>
            <a:ext cx="4905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0 тенг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мер 144х69 м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обладающий цвет лицевой стороны банкноты темно-коричневый. С левой стороны банкноты водяной знак с портретом Абая, по вертикали черной краской его имя и годы жизни.             В нижнем углу с левой стороны и вверху с правой стороны обозначен цифровой номинал банкноты "20", а под ним орнаментальный узор.Основной цвет оборотной стороны коричневый. В центре изображен беркутчи с беркутом по произведениям Абая Кунанбаев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Первые образцы тенге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692360" y="1557000"/>
            <a:ext cx="345600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50 тенг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змер 144х69 м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еобладающие цвета лицевой и оборотной стороны банкноты светло-коричневый. С правой стороны банкноты размещен портрет Абулхаир хана и по вертикали светло-коричневой краской его имя и годы жизни. В нижнем углу с левой стороны и вверху с правой стороны обозначен цифровой номинал банкноты "50". На левой стороне банкноты водяной знак с портретом Абулхаир хан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оротная сторона банкноты коричневая. В центре изображены наскальные рисунки Мангистау отражающие древние искусства Казахстан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21" descr="image002"/>
          <p:cNvPicPr/>
          <p:nvPr/>
        </p:nvPicPr>
        <p:blipFill>
          <a:blip r:embed="rId1"/>
          <a:stretch/>
        </p:blipFill>
        <p:spPr>
          <a:xfrm rot="930000">
            <a:off x="4966920" y="1412640"/>
            <a:ext cx="4176720" cy="311472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В новую жизнь с новыми деньгами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437920" y="1599840"/>
            <a:ext cx="4797720" cy="24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2001 г. была выпущена в обращение банкнота номиналом 100 тенге, на лицевой сторон которой в левом верхнем углу изображение розетки специальной цветоменяющейся краской заменено краской "золотой интаглио" без цветоменяющегося эффек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http://www.nationalbank.kz/cont/import/word/docimport3167.doc.files/image003.jpg"/>
          <p:cNvPicPr/>
          <p:nvPr/>
        </p:nvPicPr>
        <p:blipFill>
          <a:blip r:embed="rId1"/>
          <a:stretch/>
        </p:blipFill>
        <p:spPr>
          <a:xfrm>
            <a:off x="5364000" y="4581360"/>
            <a:ext cx="2089440" cy="1184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7" name="Picture 4" descr="http://www.nationalbank.kz/cont/import/word/docimport3167.doc.files/image002.jpg"/>
          <p:cNvPicPr/>
          <p:nvPr/>
        </p:nvPicPr>
        <p:blipFill>
          <a:blip r:embed="rId2"/>
          <a:stretch/>
        </p:blipFill>
        <p:spPr>
          <a:xfrm>
            <a:off x="2268360" y="4581360"/>
            <a:ext cx="2376720" cy="1298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8" name="Rectangle 6"/>
          <p:cNvSpPr/>
          <p:nvPr/>
        </p:nvSpPr>
        <p:spPr>
          <a:xfrm>
            <a:off x="5003640" y="4277520"/>
            <a:ext cx="24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2001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2700360" y="4205160"/>
            <a:ext cx="122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1993 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8"/>
          <p:cNvSpPr/>
          <p:nvPr/>
        </p:nvSpPr>
        <p:spPr>
          <a:xfrm>
            <a:off x="0" y="461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1T12:14:04Z</dcterms:created>
  <dc:creator>ww</dc:creator>
  <dc:description/>
  <dc:language>en-US</dc:language>
  <cp:lastModifiedBy>LEGION</cp:lastModifiedBy>
  <dcterms:modified xsi:type="dcterms:W3CDTF">2016-01-05T11:05:47Z</dcterms:modified>
  <cp:revision>5</cp:revision>
  <dc:subject/>
  <dc:title>История национальной валюты Тенге</dc:title>
</cp:coreProperties>
</file>